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ABE9-9425-4484-800C-4F8DC6F0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2CBC-2817-43DB-B8B8-4793E030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2CBDB-17EF-41F5-9198-E9794834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CBC71-E163-4BEA-9486-717CFDA8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F1B81-49E7-4A80-B092-C7D7B329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1C028-D57C-4ABB-8445-1C9AA15E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E736D-2C72-4C9C-B17A-5EDA9E12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EB217-C24F-461D-BBBF-A3157414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0132E-0C1D-4DEE-846F-0C81CC1A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3EBDE-D621-4039-8BA2-481F416E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ABC35-AAB4-4452-903E-966E597B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387D3-AE89-49CA-A869-F38EE94D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E0CE-0AC7-47DF-B255-75A0DF07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FD48F-E037-4041-BD14-64AAF975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60F20-F07A-4BAD-AE16-FC1A170B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88931-99D9-4CBE-B1C2-8757DDE8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35800-1987-4A48-9CB3-1E344BA3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16B92-DD9A-4493-AA62-F10AB456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73CA2-982A-4DF4-B398-95901B76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0DFCD-2DC2-4C1D-A3A2-22DEAC05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C09C8-C6E5-44BF-867B-410CB61C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17BE8-259E-4486-BA34-403DC0EC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C04BC-DC00-46E6-B144-7D43D8E8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9581-BEB3-4C0E-ADDA-F45616B4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469C7-30EB-4AD2-84A3-90FEAD71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E4AAD-619D-4AF0-9343-ED275AB6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AA772-C1C2-401D-9213-E2F5906B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C37C2-B56F-4B16-96CF-D100DBA1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C442B-A9D5-4041-82B4-A3C0C2C9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DC143-59B6-4269-AFB5-E69B905C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3247A-6287-4218-8A74-CE21FB3B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4873D-CD3E-4002-9929-230B9D87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8493A-1FBE-4620-A059-796916C1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773A1-6994-4447-9C7D-61C9A1B4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C8C7-C509-48C0-947F-8A71B649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C1983-4EA2-4C81-8BE4-38126C54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D2ECE-89B3-4808-8F55-CE0D447B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8ECD2-7A40-4A62-8738-A383608C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39F5C-1E16-4785-99D2-A918BD8B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BBE24-0DAC-4112-A996-FDF74F85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86FC3-FB58-46D7-8484-2190CB02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DF7FE-6EE7-46A5-9AE6-26C29410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184CB-0081-4179-8017-2C471061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BEA03-C066-4271-BA4B-120DA95E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39EB3-1220-4BA7-8361-F10E2713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240D-208F-4C17-9598-D626E085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FA075-9F2C-47CF-A745-D14FA413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2EE90-D27D-4DE3-BBF7-073E3299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76CE1-6342-4BCB-8D93-57FA42D4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261D8-C55C-45CA-A188-ECE51EF1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20F5C-F52C-4936-A448-29541A65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5D0DA1-37EA-474D-802F-55928902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C5D833-80D9-49C1-AFD7-5270E018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603142-A8A3-4083-BF54-30E67A1F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EA0595-7F9A-4246-A8E7-AE9664F4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D8DD66-1A48-4EE1-A769-B7D36D86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859C-C3F9-4616-84FD-4C6FAB23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7C1EC-D3AC-48D6-8FF1-F0608B42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576481-A95F-4026-A37E-6D37C5F5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A2BC0A-64B0-4B90-BA2D-6B3A13D1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5B4122-2001-4AFC-BC76-90FDD467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3A77C3-F5BB-40C0-A38B-D6362D65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C95D91-CB07-43E0-BD51-8EE371D2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CEA5E0-5BAF-4DA9-8BCB-051FA7D8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4F79FD-9EC8-4996-A933-3C0F50D2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831154-8D73-44BA-98EA-3CC7CA5A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099502-1B05-4649-BF30-52B09347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BAF4-D9A6-4D6F-9208-C07632A8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3E3CD7-3884-43CA-9B0C-AE2F9BAB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9896A5-3206-4E16-8233-E672F187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89D643-AD92-4181-9DD8-659090BB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BA17A9-6B5E-4A1D-9892-B9B0E3C9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BA09F5-21E0-47FA-BCEB-809C4620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3DC1F6-0345-4A21-9D33-138F5CEC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12794A-F9DB-49B3-8AA4-5B57C05A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8A6A88-3B8D-450D-95A8-6014BF8B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30BC19-380C-4368-8106-78F805E2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292D7E-2108-4B9A-A0BE-6C2784AA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8F5A-A1D5-491E-B78F-2F6D31F3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7FDE29-2440-4337-AD47-26C1F3DE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6DDC1C-ED8D-46F8-B7E4-EE5EF3DC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52D2F7-9120-437A-AEAD-37E5FFE2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59FBF5-70F2-461A-AEE2-04D79303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F19394-59C2-407E-9EB0-F097ECF8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C39E6E-C66D-4765-A24F-0AC4A091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A13AAE-6CBC-4BB3-8B6C-5A4DE89B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0262A5-5306-4CAF-BAC4-94FF9C31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ED3CFC-339A-4906-B9EC-CF37F680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BD1EA8-EA23-40B1-84C1-04509505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40AB-4CF2-452E-B6F8-38FDE94E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9C4626-AF31-43A4-9B52-ADAB8EFF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630DA5-2A0E-4622-B76A-9E52C3FD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48D101-C500-4161-BAB7-F1CB8054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03E5B0-D619-40F4-933B-A7CEBB97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7CFBDF-9A9D-4740-B746-4418B555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CF0884-A670-4BBD-82A9-FB58C0CF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0F01C0-E7AA-4CC8-B8C8-B2D0F011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5EB43F-DEE6-4549-B665-93068546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D455AC-8D41-46DF-AF37-E73C5326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196F7F-8E38-475F-B977-F28B2594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2D75-C08A-4485-992F-A2038838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9E5B3F-9D25-489A-900D-FB9D53B0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167DC3-F5F8-4555-AD8F-E54B1966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160F49-71D1-41F7-9EB7-280A53A3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59B65A-745C-42A4-8628-73D09A76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0FF85D-5D3E-4CC3-9865-78C25D2C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15771F-DFF0-45DD-B4F6-2856805E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2A9F94-E875-4DC6-953A-9B39EB30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C0674C-A441-4852-8EFE-99116145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97781C-3779-4D7A-9FD6-7C01D3EC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03787C-67DA-4513-8EC0-B8948CB3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1847-FDC6-40D0-AEC9-1CB5963A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300D-612C-4D8C-B2F2-7068C3F9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9FB432-940D-490A-B2F5-62AFCAD3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CF73B7-973B-4550-814F-4124982F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94AAE1-9757-4305-B7A4-9C3F1090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CE5D18-A336-4DBA-8738-E5B331CD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409B73-7B58-48D6-BDF0-14C148A0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539578-8E38-4D47-8E9E-15CE0CC3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1A4216-2C2C-494F-93AD-5FF4F03F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A93A1C-BDD4-41D8-8817-62D5DB19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CB9341-699C-4D8C-BC68-0111EB0C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88F435-765B-4D8B-AE44-FF151554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A40D-C84F-47F4-BEED-408FDD73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D847B7-042A-437B-846A-10C4ACA2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961868-C5E1-465E-A826-623784D4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EA0678-5138-4921-80D8-BEA21FDB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FE1BB6-927E-4BE0-9B46-825E4BFF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4A9EE3-DF33-442F-A484-6C5E958C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C32A8D-F8F6-47D8-9CD9-E17553E5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A5597E-8761-466E-918C-DA32DE00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861D2A-E9DF-4911-98B6-A9A240C0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04ECDF-D2EC-43DC-919D-CE58B790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024DF6-D80E-46B6-80DB-25BE3677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B3EE-027C-4E69-87A6-CD4C2216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740F97-DBB0-4588-8876-47FB8B74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5F1C98-34CD-4B9D-A6F4-F5899795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AA0467-F3DA-4A02-A23A-2E004C03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A5BCCF-5A89-4068-BF76-22E3ADE6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541A73-F305-4965-9BB3-6FF4E605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50617D-EAFA-40C6-846B-CC146072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6C0EB5-3941-4E92-870D-6D91712D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1FA19E-54BE-4CD4-A811-F3901A27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5B09FE-8574-4B56-AC97-67485DAD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9B2B85-C369-4682-B419-CA3EBB71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E142-3B41-4578-92ED-B94BD701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DD0164-7C2D-4400-9427-239C3A9A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4F5A6F-7F70-41DC-B3CB-6BE4A84E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752FAA-CFA4-44D5-BBDC-B335C2DE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592E3E-6889-4036-A8FA-D969FA8C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458460-CAEB-479F-B401-8675FAEB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F8A620-00DF-4FB4-8B00-F3F83F84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044805-BA23-4617-99DB-0C299A29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8C7F50-2380-4431-84D7-9480079E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91178F-3267-4E79-BDE9-DC04E96A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16A870-90B3-43CD-8837-BFBA1686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BC11-1680-44ED-ABFD-2ED9503A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7CE221-CB3C-4BC3-962B-4C77F1F6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F03640-8B3D-4394-B34D-46095D5F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08EF55-4C30-49E2-9D72-EA66F697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0D536C-E2D9-4683-A4ED-DD22687D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C24ABD-C940-4468-BD87-A0288555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5C866B-3361-48E7-B978-33D80F2D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2B05BD-98C7-464D-B3E3-089D7C12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62F582-7C99-421C-B6D7-BAC20EA7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2955C1-0BDA-4C62-BEB5-7784444F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A52167-7506-4D0C-B197-E74C2458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08B43-0C00-47DE-ABE2-3458CE28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5A245A-D888-4D50-83AA-9FACB4DF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4C4923-BEE5-4E41-8FE6-B8E1F5C2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ACF13D-F8F4-4371-802E-878AF332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C5A89-86FE-44D9-83C4-459EBA7D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CE602-2592-4375-B83B-E83C3C64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E2FC7-9E16-4D98-984A-6656CFFF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5B404-7E74-4197-B01F-90FDD164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0133-604A-4724-8346-89E5CC36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BB2AA-D561-47E9-8C12-5E957E62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772E9-A708-4EB4-A3F0-19A435AB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F42D1-04A5-479B-81D0-29223C2E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8C6D2-C341-4676-BF75-D3E31456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431AB-D39D-4C5F-B01E-E4E8F78D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D6FD2-1016-42FB-82F0-6F465C7AE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61410-BE04-44B0-8185-00EDDCD5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7776B-E811-4678-9A3A-AF882C30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A3325-D4B1-40D7-B734-F771C376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60C12-DF7E-48A9-ACAD-D84DBB8E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226E-83A7-4009-9313-D03E808F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08908-8948-482C-A7AD-C481E26F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1F1C2-E5D9-4F5F-A50A-5B1BE2F7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13BB3-41B5-4E96-9CE3-E4F41337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8AA63-4D64-48DC-BF24-093F2E22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ED790-ACAB-49E8-B20A-16AE5481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87D8B-B4A9-4E35-9FCF-6CD499BD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DB698-2123-4E3D-947A-333A7903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A51E9-9C03-4BA3-AFDA-3082E027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543AB-7593-4874-9326-43FCF4B1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11ED1-FAC5-4322-BFF8-5E46C31B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891F-A273-4EDF-B3CA-2D21B3B4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92A80-0B84-48CB-B9CB-DDC89FC9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0FC06-3293-4A81-BA2B-3212AF03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ABDE7-2C75-4012-8F6F-ACDD29C6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18F2C-48D1-45EF-A181-E9CD4301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F265D-AFF2-485D-9F4E-76B0243A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00072-D34D-4294-AF61-3276223F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9C06B-4344-48DB-B27D-1E00485E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CD3C8-DB98-401B-9C42-AC8754FC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15D3E-39B1-4DFB-B55D-8162B4B9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35C33-FDB1-48B0-8A8E-0860CA4A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FB20-D174-46FC-A683-3D7A4469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A8137-1C65-43B5-8436-803DFD8C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C97A1-A5A5-4153-AD64-278D27F4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3FADA-F848-42D8-9904-3BC98079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98F0D-2389-4C25-AE77-0A4899EC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060D6-9874-4DDE-ADB5-5B8B9387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0C5D8-E50A-42A1-998A-597F368C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CC2CB-D49C-4EC7-B062-795F11BE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4BB5D-9AB4-483D-98CD-98763DBD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8FFE9-E9A3-499D-84DB-EEA64AF5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AF76C-B240-4661-BB56-6441F01A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269E-08B3-4334-9EC9-0A158742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538B4-834A-42A2-9AEE-28239909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2B43A-F9B9-444E-A1A9-7A3B788C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24628-F382-46B0-B9F4-E6DCE897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CCCF6-6750-4CD4-8D46-BFFE1AA5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58A88-2A4C-4CEC-BAE4-63646543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9D72E-FC2A-418F-90D3-B9C8707C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98344-BE09-4BB1-974D-4C3538B9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BE166-A491-470D-88F1-496AAB75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16AAA-3D7E-48D9-B17C-496F8A5C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34804-2BF9-42E8-A323-05A964D9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B498-7A9B-4A16-A416-D359783B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78B03-BCE1-48B8-A673-E9EFAD63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9AAD7-D70E-4BEB-A458-A2658929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3F764-A03E-431C-8235-DBC1C8E4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4DCE6-6A06-436C-9B1E-E81308E8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2DF67-CE26-452F-A30B-7593C18B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1ED50-0745-41E4-9B33-43BD0EC0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E8F76-1C97-4EBD-ABAD-0F2EBD5D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B15F5-E504-4E78-A1C6-BAA6ED88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38057-B1FB-43C2-B5B0-B9F66E71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CE95E-A2E6-4223-A5D6-76A1B991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57B-8BE9-43C9-A658-1481A2DB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FABEE-7BC9-4E55-B529-98DCDD29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AE7E9-3F4F-4E7A-AF3F-1C03CD05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328C7-3EB7-4F58-A8E0-F0B78EAC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EC5C7-F911-4389-A432-1F8C9963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002A5-A577-45CA-B882-91B3EBD3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74428-036C-4777-BE3B-D5D9EE3F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C75C3-77ED-4172-874C-D3C8AF9D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383A3-21F3-4965-97DB-0A19FD29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A9929-0DBC-488D-A11A-C63857A1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5B192-8E31-4696-B76D-C995CE7C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A0CC-01C6-4415-B771-B3D93DD4EA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E6F5-AF89-49E7-B122-A58C490DB8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1078-3337-4384-B998-77DA1D3A51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8C81-4FC5-480A-8AFF-D1DD36181E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74E8-CDEF-4F57-A7E7-104A88D95D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71D2-334E-4AB5-9E47-5C638CC838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A6F7-E82C-4E5E-882D-C683A8FF1D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A3F0-6042-4B09-972F-1C37709BB3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735B-072F-447C-9F30-958BBFDA9D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41CD-B807-40A7-8938-5B6F0A1931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0B41-072C-4A67-9446-52CA2FFBFC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8670-8B03-4534-8B6C-DFA52AAEB2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D974-A3D5-408C-B89A-BF868554C2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B8CE-B155-473F-A528-F18512B92A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AF77-2329-4971-8500-F8001C207F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F4F6-F341-483C-96D3-1BB69D3312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C6CA-E06B-407F-8683-EA0492DD49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0CC4-81C7-4E37-8E08-6DEE1200E9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52EB-C21C-431A-87AA-810CCB9DD5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5EC6-4522-4165-877E-562DBACEBF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DB0D-9FCE-4C21-BDA7-F24C8483E8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CC42-BA04-4F5C-BA28-0183CE65D8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F344-9F47-4425-BC63-E262FC8F6A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4575-0B81-4876-860A-DB3AFB6044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170E-239D-43EC-9388-2EB222B62B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012F-C0FB-4879-ABFE-138CA64B50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343C-3CB4-41AB-B1A1-089B53A327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191C-9C80-4B33-8DF0-570AE02AC1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5B9B-84AA-4125-A0CC-01E82C37EC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D551-2024-425D-9011-5287B685A0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5C85-01C2-438B-875E-F1499A9C4C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80C9-A4ED-4C79-81F7-E87301DDA6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1330-BF0A-400D-BC85-B744534E54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4046-76CC-4DF2-9375-6F3F751C05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1A62-D128-488B-82B0-B7F0629B0A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9D41-61D4-46CD-965E-18C44AD7ED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2610-F32A-4269-AFC9-E6C4FB7B46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9C26-D612-47BE-8CFB-DF4EC7AE5E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DD5B-6971-4F1F-ADA5-7A61FB3B19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63D8-159E-4134-AD8B-FFE51F679A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81" descr=""/>
          <p:cNvPicPr/>
          <p:nvPr/>
        </p:nvPicPr>
        <p:blipFill>
          <a:blip r:embed="rId1"/>
          <a:stretch/>
        </p:blipFill>
        <p:spPr>
          <a:xfrm>
            <a:off x="3668760" y="2130480"/>
            <a:ext cx="1847880" cy="704880"/>
          </a:xfrm>
          <a:prstGeom prst="rect">
            <a:avLst/>
          </a:prstGeom>
          <a:ln w="0">
            <a:noFill/>
          </a:ln>
        </p:spPr>
      </p:pic>
      <p:pic>
        <p:nvPicPr>
          <p:cNvPr id="1023" name="图片 28682" descr=""/>
          <p:cNvPicPr/>
          <p:nvPr/>
        </p:nvPicPr>
        <p:blipFill>
          <a:blip r:embed="rId2"/>
          <a:stretch/>
        </p:blipFill>
        <p:spPr>
          <a:xfrm>
            <a:off x="1600200" y="3119400"/>
            <a:ext cx="59436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77825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86680" cy="5734080"/>
          </a:xfrm>
          <a:prstGeom prst="rect">
            <a:avLst/>
          </a:prstGeom>
          <a:ln w="0">
            <a:noFill/>
          </a:ln>
        </p:spPr>
      </p:pic>
      <p:sp>
        <p:nvSpPr>
          <p:cNvPr id="1025" name="矩形 77826"/>
          <p:cNvSpPr/>
          <p:nvPr/>
        </p:nvSpPr>
        <p:spPr>
          <a:xfrm>
            <a:off x="1042920" y="5157720"/>
            <a:ext cx="6985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77827"/>
          <p:cNvSpPr/>
          <p:nvPr/>
        </p:nvSpPr>
        <p:spPr>
          <a:xfrm>
            <a:off x="998640" y="5832360"/>
            <a:ext cx="4581360" cy="7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03425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86680" cy="5429160"/>
          </a:xfrm>
          <a:prstGeom prst="rect">
            <a:avLst/>
          </a:prstGeom>
          <a:ln w="0">
            <a:noFill/>
          </a:ln>
        </p:spPr>
      </p:pic>
      <p:sp>
        <p:nvSpPr>
          <p:cNvPr id="1028" name="矩形 103426"/>
          <p:cNvSpPr/>
          <p:nvPr/>
        </p:nvSpPr>
        <p:spPr>
          <a:xfrm>
            <a:off x="949320" y="4479840"/>
            <a:ext cx="5788080" cy="35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103427"/>
          <p:cNvSpPr/>
          <p:nvPr/>
        </p:nvSpPr>
        <p:spPr>
          <a:xfrm>
            <a:off x="961920" y="4838760"/>
            <a:ext cx="6562800" cy="35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103428"/>
          <p:cNvSpPr/>
          <p:nvPr/>
        </p:nvSpPr>
        <p:spPr>
          <a:xfrm>
            <a:off x="885960" y="5199120"/>
            <a:ext cx="5054400" cy="35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103429"/>
          <p:cNvSpPr/>
          <p:nvPr/>
        </p:nvSpPr>
        <p:spPr>
          <a:xfrm>
            <a:off x="939960" y="5516640"/>
            <a:ext cx="7304040" cy="72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104449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591320" cy="5438880"/>
          </a:xfrm>
          <a:prstGeom prst="rect">
            <a:avLst/>
          </a:prstGeom>
          <a:ln w="0">
            <a:noFill/>
          </a:ln>
        </p:spPr>
      </p:pic>
      <p:sp>
        <p:nvSpPr>
          <p:cNvPr id="1033" name="矩形 104450"/>
          <p:cNvSpPr/>
          <p:nvPr/>
        </p:nvSpPr>
        <p:spPr>
          <a:xfrm>
            <a:off x="731880" y="822240"/>
            <a:ext cx="5788080" cy="35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104451"/>
          <p:cNvSpPr/>
          <p:nvPr/>
        </p:nvSpPr>
        <p:spPr>
          <a:xfrm>
            <a:off x="755640" y="1197000"/>
            <a:ext cx="5859360" cy="69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104452"/>
          <p:cNvSpPr/>
          <p:nvPr/>
        </p:nvSpPr>
        <p:spPr>
          <a:xfrm>
            <a:off x="755640" y="1916280"/>
            <a:ext cx="752940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104453"/>
          <p:cNvSpPr/>
          <p:nvPr/>
        </p:nvSpPr>
        <p:spPr>
          <a:xfrm>
            <a:off x="853920" y="2319480"/>
            <a:ext cx="59500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104454"/>
          <p:cNvSpPr/>
          <p:nvPr/>
        </p:nvSpPr>
        <p:spPr>
          <a:xfrm>
            <a:off x="865080" y="2708280"/>
            <a:ext cx="7020000" cy="63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104455"/>
          <p:cNvSpPr/>
          <p:nvPr/>
        </p:nvSpPr>
        <p:spPr>
          <a:xfrm>
            <a:off x="625320" y="3357720"/>
            <a:ext cx="7020000" cy="11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104456"/>
          <p:cNvSpPr/>
          <p:nvPr/>
        </p:nvSpPr>
        <p:spPr>
          <a:xfrm>
            <a:off x="766800" y="4533840"/>
            <a:ext cx="5029200" cy="6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104457"/>
          <p:cNvSpPr/>
          <p:nvPr/>
        </p:nvSpPr>
        <p:spPr>
          <a:xfrm>
            <a:off x="831960" y="5230800"/>
            <a:ext cx="502920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104458"/>
          <p:cNvSpPr/>
          <p:nvPr/>
        </p:nvSpPr>
        <p:spPr>
          <a:xfrm>
            <a:off x="826920" y="5589720"/>
            <a:ext cx="55454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05473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1072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106497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648560" cy="5924520"/>
          </a:xfrm>
          <a:prstGeom prst="rect">
            <a:avLst/>
          </a:prstGeom>
          <a:ln w="0">
            <a:noFill/>
          </a:ln>
        </p:spPr>
      </p:pic>
      <p:sp>
        <p:nvSpPr>
          <p:cNvPr id="1044" name="矩形 106498"/>
          <p:cNvSpPr/>
          <p:nvPr/>
        </p:nvSpPr>
        <p:spPr>
          <a:xfrm>
            <a:off x="709560" y="768240"/>
            <a:ext cx="4367160" cy="35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106499"/>
          <p:cNvSpPr/>
          <p:nvPr/>
        </p:nvSpPr>
        <p:spPr>
          <a:xfrm>
            <a:off x="752400" y="1268280"/>
            <a:ext cx="4367160" cy="5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106500"/>
          <p:cNvSpPr/>
          <p:nvPr/>
        </p:nvSpPr>
        <p:spPr>
          <a:xfrm>
            <a:off x="684360" y="1916280"/>
            <a:ext cx="4535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106501"/>
          <p:cNvSpPr/>
          <p:nvPr/>
        </p:nvSpPr>
        <p:spPr>
          <a:xfrm>
            <a:off x="826920" y="2349360"/>
            <a:ext cx="7561440" cy="7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106502"/>
          <p:cNvSpPr/>
          <p:nvPr/>
        </p:nvSpPr>
        <p:spPr>
          <a:xfrm>
            <a:off x="750960" y="3144960"/>
            <a:ext cx="75610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106503"/>
          <p:cNvSpPr/>
          <p:nvPr/>
        </p:nvSpPr>
        <p:spPr>
          <a:xfrm>
            <a:off x="750960" y="3546360"/>
            <a:ext cx="756108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106504"/>
          <p:cNvSpPr/>
          <p:nvPr/>
        </p:nvSpPr>
        <p:spPr>
          <a:xfrm>
            <a:off x="717480" y="3936960"/>
            <a:ext cx="407052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106505"/>
          <p:cNvSpPr/>
          <p:nvPr/>
        </p:nvSpPr>
        <p:spPr>
          <a:xfrm>
            <a:off x="717480" y="4340160"/>
            <a:ext cx="767088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106506"/>
          <p:cNvSpPr/>
          <p:nvPr/>
        </p:nvSpPr>
        <p:spPr>
          <a:xfrm>
            <a:off x="673200" y="4721400"/>
            <a:ext cx="670716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106507"/>
          <p:cNvSpPr/>
          <p:nvPr/>
        </p:nvSpPr>
        <p:spPr>
          <a:xfrm>
            <a:off x="596880" y="5124600"/>
            <a:ext cx="670716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106508"/>
          <p:cNvSpPr/>
          <p:nvPr/>
        </p:nvSpPr>
        <p:spPr>
          <a:xfrm>
            <a:off x="639720" y="5516640"/>
            <a:ext cx="4363920" cy="110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图片 107521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6796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图片 108545" descr=""/>
          <p:cNvPicPr/>
          <p:nvPr/>
        </p:nvPicPr>
        <p:blipFill>
          <a:blip r:embed="rId1"/>
          <a:stretch/>
        </p:blipFill>
        <p:spPr>
          <a:xfrm>
            <a:off x="752400" y="1028880"/>
            <a:ext cx="7639200" cy="4800600"/>
          </a:xfrm>
          <a:prstGeom prst="rect">
            <a:avLst/>
          </a:prstGeom>
          <a:ln w="0">
            <a:noFill/>
          </a:ln>
        </p:spPr>
      </p:pic>
      <p:sp>
        <p:nvSpPr>
          <p:cNvPr id="1057" name="矩形 108546"/>
          <p:cNvSpPr/>
          <p:nvPr/>
        </p:nvSpPr>
        <p:spPr>
          <a:xfrm>
            <a:off x="797040" y="2673360"/>
            <a:ext cx="7591320" cy="35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108547"/>
          <p:cNvSpPr/>
          <p:nvPr/>
        </p:nvSpPr>
        <p:spPr>
          <a:xfrm>
            <a:off x="797040" y="3065400"/>
            <a:ext cx="7591320" cy="35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108548"/>
          <p:cNvSpPr/>
          <p:nvPr/>
        </p:nvSpPr>
        <p:spPr>
          <a:xfrm>
            <a:off x="839880" y="3478320"/>
            <a:ext cx="2436840" cy="35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108549"/>
          <p:cNvSpPr/>
          <p:nvPr/>
        </p:nvSpPr>
        <p:spPr>
          <a:xfrm>
            <a:off x="884160" y="3903840"/>
            <a:ext cx="6567480" cy="103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108550"/>
          <p:cNvSpPr/>
          <p:nvPr/>
        </p:nvSpPr>
        <p:spPr>
          <a:xfrm>
            <a:off x="861840" y="5003640"/>
            <a:ext cx="4214880" cy="35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108551"/>
          <p:cNvSpPr/>
          <p:nvPr/>
        </p:nvSpPr>
        <p:spPr>
          <a:xfrm>
            <a:off x="873000" y="5460840"/>
            <a:ext cx="7371000" cy="35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29:29Z</dcterms:modified>
  <cp:revision>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